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42369-3777-4B1B-ABAC-F5A42CF10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CCF12-5BEE-4AED-8AE9-21427313A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46176-20A8-460F-BB71-5F14F5419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38486-DA20-435E-AA2F-6D3453862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125E3-D2EA-4A8B-929E-C2386EDF0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66EC8-6D75-47FA-8767-9C91C4A9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5C3EF-4520-4D0D-8EAE-202BD064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DF975-1753-4F24-ADC4-9BDC65D5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5D98B-AC7F-45B9-85E6-BD34EC032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256B-D31D-4AE7-A867-2220990B3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2882-A7A6-47BE-A632-2E07189D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2A7B-A8DC-4743-8086-612467962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3BE9-A238-4823-A95D-2334F706438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609480" y="228600"/>
            <a:ext cx="7848720" cy="597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 </a:t>
            </a:r>
            <a:r>
              <a:rPr b="1" lang="es-MX" sz="2000" spc="-1" strike="noStrike" u="sng">
                <a:solidFill>
                  <a:srgbClr val="000000"/>
                </a:solidFill>
                <a:uFillTx/>
                <a:latin typeface="Arial"/>
              </a:rPr>
              <a:t>CONSEJO PROFESIONAL DE CIENCIAS ECONOMICAS CABA </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BASES Y LINEAMIENTOS GENERAL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PARA UNA FUTURA REFORMA TRIBUTARIA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SUB GRUPO DE TRABAJO AGROPECUARIO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404640"/>
            <a:ext cx="81471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AR" sz="2800" spc="-1" strike="noStrike" u="sng">
                <a:solidFill>
                  <a:srgbClr val="000000"/>
                </a:solidFill>
                <a:uFillTx/>
                <a:latin typeface="Arial"/>
              </a:rPr>
              <a:t>Impuesto a las ganancias</a:t>
            </a:r>
            <a:br>
              <a:rPr sz="2800"/>
            </a:br>
            <a:r>
              <a:rPr b="1" lang="es-AR" sz="2800" spc="-1" strike="noStrike" u="sng">
                <a:solidFill>
                  <a:srgbClr val="000000"/>
                </a:solidFill>
                <a:uFillTx/>
                <a:latin typeface="Arial"/>
              </a:rPr>
              <a:t>Valuación de inventarios agropecuarios </a:t>
            </a:r>
            <a:endParaRPr b="0" lang="en-US" sz="2800" spc="-1" strike="noStrike">
              <a:solidFill>
                <a:srgbClr val="000000"/>
              </a:solidFill>
              <a:latin typeface="Arial"/>
            </a:endParaRPr>
          </a:p>
        </p:txBody>
      </p:sp>
      <p:sp>
        <p:nvSpPr>
          <p:cNvPr id="58" name=""/>
          <p:cNvSpPr txBox="1"/>
          <p:nvPr/>
        </p:nvSpPr>
        <p:spPr>
          <a:xfrm>
            <a:off x="250920" y="1413000"/>
            <a:ext cx="8424720" cy="4176720"/>
          </a:xfrm>
          <a:prstGeom prst="rect">
            <a:avLst/>
          </a:prstGeom>
          <a:noFill/>
          <a:ln w="0">
            <a:noFill/>
          </a:ln>
        </p:spPr>
        <p:txBody>
          <a:bodyPr anchor="t">
            <a:normAutofit/>
          </a:bodyPr>
          <a:p>
            <a:pPr marL="609480" indent="-60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rPr>
              <a:t> </a:t>
            </a:r>
            <a:endParaRPr b="0" lang="en-US" sz="2600" spc="-1" strike="noStrike">
              <a:solidFill>
                <a:srgbClr val="000000"/>
              </a:solidFill>
              <a:latin typeface="Arial"/>
            </a:endParaRPr>
          </a:p>
          <a:p>
            <a:pPr marL="609480" indent="-60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a:rPr>
              <a:t>Diagnóstico de Situación</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Valuación de Existencias</a:t>
            </a:r>
            <a:endParaRPr b="0" lang="en-US" sz="2000" spc="-1" strike="noStrike">
              <a:solidFill>
                <a:srgbClr val="000000"/>
              </a:solidFill>
              <a:latin typeface="Arial"/>
            </a:endParaRPr>
          </a:p>
          <a:p>
            <a:pPr marL="609480" indent="-609480">
              <a:spcBef>
                <a:spcPts val="4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Animales de invernada.</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Cereales, oleaginosas, frutas y demás productos de la tierra (excepto las explotaciones forestales).</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El valor neto de realización a la fecha de cierre de ejercicio puede ser diferente 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1) Valor real de venta posterior al cier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r>
              <a:rPr b="1" lang="es-AR" sz="2000" spc="-1" strike="noStrike">
                <a:solidFill>
                  <a:srgbClr val="000000"/>
                </a:solidFill>
                <a:latin typeface="Arial"/>
              </a:rPr>
              <a:t>2) En el caso de conservar el stock al  vencimiento del pago del impuesto  puede haber disminuido su cot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Se trata de mercados volátiles en función de acontecimientos climáticos con buscar alteraciones de oferta, con variaciones de precios significativos por los cuáles, el contribuyente, no fija su precio de venta sino que toma el que el mercado establec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Caso Trigo</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B) Tratamiento Fiscal de Sementera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 ley sólo establece como valuación “al importe de cada una de las inversiones… o al probable valor de realización a la fecha de cierre”. </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Temas a considerar</a:t>
            </a:r>
            <a:endParaRPr b="0"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boreo con maquinaria propia.</a:t>
            </a:r>
            <a:endParaRPr b="0"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Semilla de propia producción.</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3.    Probable valor de realización a la fecha de cier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Impuesto a las Ganancias</a:t>
            </a:r>
            <a:br>
              <a:rPr sz="2400"/>
            </a:br>
            <a:r>
              <a:rPr b="1" lang="es-AR" sz="2400" spc="-1" strike="noStrike" u="sng">
                <a:solidFill>
                  <a:srgbClr val="000000"/>
                </a:solidFill>
                <a:uFillTx/>
                <a:latin typeface="Arial"/>
              </a:rPr>
              <a:t>Propuestas</a:t>
            </a:r>
            <a:r>
              <a:rPr b="1" lang="es-AR" sz="2400" spc="-1" strike="noStrike" u="sng">
                <a:solidFill>
                  <a:srgbClr val="ff33cc"/>
                </a:solidFill>
                <a:uFillTx/>
                <a:latin typeface="Arial"/>
              </a:rPr>
              <a:t>  </a:t>
            </a:r>
            <a:r>
              <a:rPr b="1" lang="es-AR" sz="2400" spc="-1" strike="noStrike" u="sng">
                <a:solidFill>
                  <a:srgbClr val="ff0000"/>
                </a:solidFill>
                <a:uFillTx/>
                <a:latin typeface="Arial"/>
              </a:rPr>
              <a:t> </a:t>
            </a:r>
            <a:endParaRPr b="0" lang="en-US" sz="2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Hacienda de Inverna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hacienda  de invernada a los fines impositivos, debería valuarse al costo,  criterio   que utiliza la Ley para todos los contribuyentes, mas todos los gastos directos de producció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r>
              <a:rPr b="1" lang="es-AR" sz="2000" spc="-1" strike="noStrike">
                <a:solidFill>
                  <a:srgbClr val="000000"/>
                </a:solidFill>
                <a:latin typeface="Arial"/>
              </a:rPr>
              <a:t>Cereales, oleaginosas, frutos y demás productos de la tierra  </a:t>
            </a:r>
            <a:r>
              <a:rPr b="0" lang="es-A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n el caso de los cereales y oleaginosas, no destinadas a la siembra,  que al cierre del ejercicio posean en stock los propios productores, se propone valuarlos al costo de la sementera mas todos  los gastos de recolección y aquellos necesarios para su acondicionamie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s-AR" sz="2400" spc="-1" strike="noStrike" u="sng">
                <a:solidFill>
                  <a:srgbClr val="000000"/>
                </a:solidFill>
                <a:uFillTx/>
                <a:latin typeface="Arial"/>
              </a:rPr>
              <a:t>Tratamiento fiscal de los derivados agrícolas</a:t>
            </a:r>
            <a:br>
              <a:rPr sz="2400"/>
            </a:br>
            <a:r>
              <a:rPr b="1" lang="es-AR" sz="2400" spc="-1" strike="noStrike" u="sng">
                <a:solidFill>
                  <a:srgbClr val="000000"/>
                </a:solidFill>
                <a:uFillTx/>
                <a:latin typeface="Arial"/>
              </a:rPr>
              <a:t>Propuestas </a:t>
            </a:r>
            <a:br>
              <a:rPr sz="2400"/>
            </a:br>
            <a:r>
              <a:rPr b="1" lang="es-AR"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Cobertura </a:t>
            </a:r>
            <a:r>
              <a:rPr b="1" lang="es-MX" sz="1800" spc="-1" strike="noStrike" u="sng">
                <a:solidFill>
                  <a:srgbClr val="000000"/>
                </a:solidFill>
                <a:uFillTx/>
                <a:latin typeface="Arial"/>
              </a:rPr>
              <a:t> sobre  </a:t>
            </a:r>
            <a:r>
              <a:rPr b="1" i="1" lang="es-MX" sz="1800" spc="-1" strike="noStrike" u="sng">
                <a:solidFill>
                  <a:srgbClr val="000000"/>
                </a:solidFill>
                <a:uFillTx/>
                <a:latin typeface="Arial"/>
              </a:rPr>
              <a:t>stock de granos al cierre </a:t>
            </a:r>
            <a:endParaRPr b="0" lang="en-US" sz="1800" spc="-1" strike="noStrike">
              <a:solidFill>
                <a:srgbClr val="000000"/>
              </a:solidFill>
              <a:latin typeface="Arial"/>
            </a:endParaRPr>
          </a:p>
          <a:p>
            <a:pPr marL="312120" indent="-312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ductor primario proponemos valuarlos  </a:t>
            </a:r>
            <a:r>
              <a:rPr b="1" lang="es-AR" sz="1800" spc="-1" strike="noStrike">
                <a:solidFill>
                  <a:srgbClr val="000000"/>
                </a:solidFill>
                <a:latin typeface="Arial"/>
              </a:rPr>
              <a:t>al costo de la sementera más los    gastos de recolección y  aquellos necesarios para su acondicionamiento.</a:t>
            </a:r>
            <a:endParaRPr b="0" lang="en-US" sz="18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a:solidFill>
                  <a:srgbClr val="000000"/>
                </a:solidFill>
                <a:latin typeface="Arial"/>
              </a:rPr>
              <a:t>En cambio si las coberturas  se realizan sobre  </a:t>
            </a:r>
            <a:r>
              <a:rPr b="1" lang="es-MX" sz="1800" spc="-1" strike="noStrike">
                <a:solidFill>
                  <a:srgbClr val="000000"/>
                </a:solidFill>
                <a:latin typeface="Arial"/>
              </a:rPr>
              <a:t>granos  por operadores  que intervenga en la llamada </a:t>
            </a:r>
            <a:r>
              <a:rPr b="1" lang="es-AR" sz="1800" spc="-1" strike="noStrike">
                <a:solidFill>
                  <a:srgbClr val="000000"/>
                </a:solidFill>
                <a:latin typeface="Arial"/>
              </a:rPr>
              <a:t>etapa secundaria es decir donde ya no interviene el productor primario, se deberán valuar  a valor de mercado.</a:t>
            </a:r>
            <a:endParaRPr b="0" lang="en-US" sz="18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Cobertura sobre sementeras al cierre</a:t>
            </a:r>
            <a:endParaRPr b="0" lang="en-US" sz="18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los bienes protegidos al cierre se encuentran  en </a:t>
            </a:r>
            <a:r>
              <a:rPr b="1" lang="es-MX" sz="1800" spc="-1" strike="noStrike">
                <a:solidFill>
                  <a:srgbClr val="000000"/>
                </a:solidFill>
                <a:latin typeface="Arial"/>
              </a:rPr>
              <a:t>sementeras</a:t>
            </a:r>
            <a:r>
              <a:rPr b="0" lang="es-MX" sz="1800" spc="-1" strike="noStrike">
                <a:solidFill>
                  <a:srgbClr val="000000"/>
                </a:solidFill>
                <a:latin typeface="Arial"/>
              </a:rPr>
              <a:t> estas posiciones no deben ser reflejados en el balance fiscal hasta que el grano sea cosechado, pues de otra manera se estaría imputando al balance pérdidas o ganancias que no se compensarán con el resultado del bien que se está cubriendo,  que por la normas del impuesto se valúa a su valor de costo. </a:t>
            </a:r>
            <a:endParaRPr b="0" lang="en-US" sz="18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s-AR" sz="2400" spc="-1" strike="noStrike" u="sng">
                <a:solidFill>
                  <a:srgbClr val="000000"/>
                </a:solidFill>
                <a:uFillTx/>
                <a:latin typeface="Arial"/>
              </a:rPr>
              <a:t>Tratamiento fiscal de los derivados agrícolas</a:t>
            </a:r>
            <a:br>
              <a:rPr sz="2400"/>
            </a:br>
            <a:r>
              <a:rPr b="1" lang="es-AR" sz="2400" spc="-1" strike="noStrike" u="sng">
                <a:solidFill>
                  <a:srgbClr val="ff33cc"/>
                </a:solidFill>
                <a:uFillTx/>
                <a:latin typeface="Arial"/>
              </a:rPr>
              <a:t>Propuestas</a:t>
            </a:r>
            <a:r>
              <a:rPr b="1" lang="es-AR" sz="2400" spc="-1" strike="noStrike" u="sng">
                <a:solidFill>
                  <a:srgbClr val="000000"/>
                </a:solidFill>
                <a:uFillTx/>
                <a:latin typeface="Arial"/>
              </a:rPr>
              <a:t> </a:t>
            </a:r>
            <a:br>
              <a:rPr sz="2400"/>
            </a:br>
            <a:r>
              <a:rPr b="1" lang="es-AR"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Contratos de forward</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el caso particular de aquellos stock que están comercializados al cierre con una venta a plazo (contratos forward)  que excede a la de la fecha de cierre de ejercicio la valuación de los bienes no se valuaran a  valor de cotización sino al  valor obtenido por la venta a futuro </a:t>
            </a:r>
            <a:br>
              <a:rPr sz="2000"/>
            </a:br>
            <a:r>
              <a:rPr b="0" lang="es-MX"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relación a aquellas sementeras que están comercializadas al cierre, mediante </a:t>
            </a:r>
            <a:r>
              <a:rPr b="0" lang="es-MX" sz="2000" spc="-1" strike="noStrike">
                <a:solidFill>
                  <a:srgbClr val="000000"/>
                </a:solidFill>
                <a:latin typeface="Arial"/>
              </a:rPr>
              <a:t>contratos de forward, con </a:t>
            </a:r>
            <a:r>
              <a:rPr b="0" lang="es-MX" sz="2000" spc="-1" strike="noStrike">
                <a:solidFill>
                  <a:srgbClr val="000000"/>
                </a:solidFill>
                <a:latin typeface="Arial"/>
              </a:rPr>
              <a:t>una venta a plazo determinado, que excede a la de la fecha de cierre de ejercicio proponemos que  la valuación se efectué al  valor de costo y las ventas se considerarán como no realizada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6000"/>
            </a:br>
            <a:r>
              <a:rPr b="1" lang="es-AR" sz="2000" spc="-1" strike="noStrike" u="sng">
                <a:solidFill>
                  <a:srgbClr val="000000"/>
                </a:solidFill>
                <a:uFillTx/>
                <a:latin typeface="Arial"/>
              </a:rPr>
              <a:t>Impuesto Ganancias Minima Presunta Inmuebles rurales </a:t>
            </a:r>
            <a:r>
              <a:rPr b="0" lang="es-AR" sz="6000" spc="-1" strike="noStrike">
                <a:solidFill>
                  <a:srgbClr val="000000"/>
                </a:solidFill>
                <a:latin typeface="Arial"/>
              </a:rPr>
              <a:t> </a:t>
            </a:r>
            <a:br>
              <a:rPr sz="6000"/>
            </a:br>
            <a:endParaRPr b="0" lang="en-US" sz="60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Ley de Ganancias Mínima Presunta establece  en el caso de inmuebles rurales que el valor a considerar en la determinación de la base imponible del gravamen, se  reducirá en un  25% sobre el valor fiscal asignado a la tierra libre de mejoras a los fines del pago del impuesto inmobiliario provincial o en doscientos mil pesos ($200.000), debe  surgir claramente de la Ley  si dicho monto   debe considerarse  por cada  inmueble  o por unidad económic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a:t>
            </a:r>
            <a:br>
              <a:rPr sz="2000"/>
            </a:br>
            <a:r>
              <a:rPr b="1" lang="es-AR" sz="4400" spc="-1" strike="noStrike">
                <a:solidFill>
                  <a:srgbClr val="000000"/>
                </a:solidFill>
                <a:latin typeface="Arial"/>
              </a:rPr>
              <a:t> </a:t>
            </a:r>
            <a:br>
              <a:rPr sz="4400"/>
            </a:br>
            <a:r>
              <a:rPr b="1" lang="es-AR" sz="2000" spc="-1" strike="noStrike">
                <a:solidFill>
                  <a:srgbClr val="000000"/>
                </a:solidFill>
                <a:latin typeface="Arial"/>
              </a:rPr>
              <a:t>IMPUESTO SOBRE LOS BIENES PERSONALES -  Exención  de los inmuebles pertenecientes a de personas físicas  </a:t>
            </a:r>
            <a:r>
              <a:rPr b="0" lang="es-AR"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ada las distintas argumentaciones que encontramos con relación a la gravabilidad de los inmuebles rurales pertenecientes a personas físicas y sucesiones indivisas que los utilizan en sus explotaciones unipersonales, es que creemos  necesario adecuar en la exención del inciso e) de la Ley del Impuesto sobre los Bienes Personales que se refiere a las “personas físicas o sucesiones indivisas </a:t>
            </a:r>
            <a:r>
              <a:rPr b="1" lang="es-AR" sz="2000" spc="-1" strike="noStrike">
                <a:solidFill>
                  <a:srgbClr val="000000"/>
                </a:solidFill>
                <a:latin typeface="Arial"/>
              </a:rPr>
              <a:t>titulares</a:t>
            </a:r>
            <a:r>
              <a:rPr b="0" lang="es-AR" sz="2000" spc="-1" strike="noStrike">
                <a:solidFill>
                  <a:srgbClr val="000000"/>
                </a:solidFill>
                <a:latin typeface="Arial"/>
              </a:rPr>
              <a:t> de inmuebles rurales en relación con dichos inmuebles” añadiendo la expresión  “cualquiera sea el destino otorgado al mism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Procedimiento Tributario</a:t>
            </a:r>
            <a:endParaRPr b="0" lang="en-US" sz="2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Veracidad de las Operacion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resunción de diferencia de producción Imágenes Satelital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anciones impropias en el Comercio de Gra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Arial"/>
              </a:rPr>
              <a:t>Veracidad de las operaciones</a:t>
            </a:r>
            <a:br>
              <a:rPr sz="2000"/>
            </a:br>
            <a:endParaRPr b="0" lang="en-US" sz="2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s en  el  comercio de granos, donde en  mayor medida se ven perjudicados  algunos compradores de buena fe, los que a pesar de cumplir con toda la normativa vigente,  el fisco   pretende impugnarse  el crédito fiscal en el IVA, esgrimiendo  que el vendedor no ha ingresado el debito fisc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stacamos que sería necesario recomendar que la Administración  con el fin de beneficiar la relación fisco-contribuyente instruya a sus funcionarios para que apliquen las normas en su justa medida, evitando la tentación de invertir la carga de la prueba y trasladar sin norma legal alguna sobre la base de meras presunciones de comportamientos antijurídicos, tal como en forma impecable lo  señala un reciente  </a:t>
            </a:r>
            <a:r>
              <a:rPr b="0" lang="es-ES_tradnl" sz="1800" spc="-1" strike="noStrike">
                <a:solidFill>
                  <a:srgbClr val="000000"/>
                </a:solidFill>
                <a:latin typeface="Arial"/>
              </a:rPr>
              <a:t>Dictamen de la Procuración General de la Suprema  Corte de Justicia de la Nación, en la causa “ Bildown SA c/Fisco Nacional.</a:t>
            </a:r>
            <a:r>
              <a:rPr b="0" lang="es-A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609480" y="228600"/>
            <a:ext cx="7848720" cy="7742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FORMA TRIBUTARIA:  SUB - GRUPO AGROPECUARI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000000"/>
                </a:solidFill>
                <a:uFillTx/>
                <a:latin typeface="Arial"/>
              </a:rPr>
              <a:t>Coordinador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ra.C.P. Claudia Chiaradí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000000"/>
                </a:solidFill>
                <a:uFillTx/>
                <a:latin typeface="Arial"/>
              </a:rPr>
              <a:t>Integrant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r. C.P. Carlos Battila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r. C.P. Arnaud Iribar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r. C.P. Marcelo Maroevi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ra. C.P. Adriana Peluffo</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500" fill="hold"/>
                                        <p:tgtEl>
                                          <p:spTgt spid="42"/>
                                        </p:tgtEl>
                                        <p:attrNameLst>
                                          <p:attrName>ppt_x</p:attrName>
                                        </p:attrNameLst>
                                      </p:cBhvr>
                                      <p:tavLst>
                                        <p:tav tm="0">
                                          <p:val>
                                            <p:strVal val="0-#ppt_w/2"/>
                                          </p:val>
                                        </p:tav>
                                        <p:tav tm="100000">
                                          <p:val>
                                            <p:strVal val="#ppt_x"/>
                                          </p:val>
                                        </p:tav>
                                      </p:tavLst>
                                    </p:anim>
                                    <p:anim calcmode="lin" valueType="num">
                                      <p:cBhvr additive="base">
                                        <p:cTn id="16"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3 Rectángulo"/>
          <p:cNvSpPr/>
          <p:nvPr/>
        </p:nvSpPr>
        <p:spPr>
          <a:xfrm>
            <a:off x="714240" y="571680"/>
            <a:ext cx="78184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a:rPr>
              <a:t>Contribuyente excluido o no incluido en RFO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a:rPr>
              <a:t>Frente al 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AR" sz="2000" spc="-1" strike="noStrike">
                <a:solidFill>
                  <a:srgbClr val="000000"/>
                </a:solidFill>
                <a:latin typeface="Arial"/>
              </a:rPr>
              <a:t>- Retención del 100% del I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o devolución del reintegro  sistémico (7%) de las retenciones soportadas para los productores</a:t>
            </a:r>
            <a:br>
              <a:rPr sz="2000"/>
            </a:br>
            <a:r>
              <a:rPr b="0" lang="es-AR"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ercepción en el IVA en operaciones de canje del 10,5% del precio neto de la      oper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o habilita a los exportadores e intermediaros a compensar los importes de las retenciones practicad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4 Rectángulo"/>
          <p:cNvSpPr/>
          <p:nvPr/>
        </p:nvSpPr>
        <p:spPr>
          <a:xfrm flipV="1" rot="10800000">
            <a:off x="826920" y="4028040"/>
            <a:ext cx="777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5 Rectángulo"/>
          <p:cNvSpPr/>
          <p:nvPr/>
        </p:nvSpPr>
        <p:spPr>
          <a:xfrm>
            <a:off x="971640" y="4724280"/>
            <a:ext cx="7561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68360" y="90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Frente al Impuesto a las Gananci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 </a:t>
            </a:r>
            <a:r>
              <a:rPr b="0" lang="es-AR" sz="2000" spc="-1" strike="noStrike">
                <a:solidFill>
                  <a:srgbClr val="000000"/>
                </a:solidFill>
                <a:latin typeface="Arial"/>
              </a:rPr>
              <a:t>Retención en el impuesto a las ganancias del 15% sobre el total de la operación en lugar del 2% para los inscriptos o suspendidos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Otros efect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Asimismo aunque no está expresamente establecido en la norma antes citada la no inclusión limita la adquisición de los formularios 1116 A, 1116 B/C y los 1116 RT y la obtención de  cartas de porte (hasta 5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En ocasiones quedan fuera del mercado los productores  excluidos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539640" y="260280"/>
            <a:ext cx="7278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Exclusiones </a:t>
            </a:r>
            <a:endParaRPr b="0" lang="en-US" sz="3200" spc="-1" strike="noStrike">
              <a:solidFill>
                <a:srgbClr val="000000"/>
              </a:solidFill>
              <a:latin typeface="Arial"/>
            </a:endParaRPr>
          </a:p>
        </p:txBody>
      </p:sp>
      <p:sp>
        <p:nvSpPr>
          <p:cNvPr id="80" name="Text Box 3"/>
          <p:cNvSpPr/>
          <p:nvPr/>
        </p:nvSpPr>
        <p:spPr>
          <a:xfrm>
            <a:off x="0" y="1268280"/>
            <a:ext cx="9144000" cy="48182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99"/>
              </a:spcBef>
              <a:spcAft>
                <a:spcPts val="499"/>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Transcurridos los 60 días sin subsanar el incumplimientos formales.</a:t>
            </a:r>
            <a:endParaRPr b="0" lang="en-US" sz="2000" spc="-1" strike="noStrike">
              <a:solidFill>
                <a:srgbClr val="000000"/>
              </a:solidFill>
              <a:latin typeface="Arial"/>
            </a:endParaRPr>
          </a:p>
          <a:p>
            <a:pPr marL="457200" indent="-457200" algn="just">
              <a:spcBef>
                <a:spcPts val="499"/>
              </a:spcBef>
              <a:spcAft>
                <a:spcPts val="499"/>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sponsables cuya inclusión en el "Registro" hubiera sido transitoriamente suspendida por aplicación de las previsiones del Artículo 40, inciso b). En tal caso la exclusión se efectuará mediante acto administrativo fundado.</a:t>
            </a:r>
            <a:endParaRPr b="0" lang="en-US" sz="2000" spc="-1" strike="noStrike">
              <a:solidFill>
                <a:srgbClr val="000000"/>
              </a:solidFill>
              <a:latin typeface="Arial"/>
            </a:endParaRPr>
          </a:p>
          <a:p>
            <a:pPr marL="457200" indent="-457200" algn="just">
              <a:spcBef>
                <a:spcPts val="499"/>
              </a:spcBef>
              <a:spcAft>
                <a:spcPts val="499"/>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uando no reúna la condición de habitualidad en el comercio de granos de acuerdo a lo dispuesto en el Artículo 46.</a:t>
            </a:r>
            <a:endParaRPr b="0" lang="en-US" sz="2000" spc="-1" strike="noStrike">
              <a:solidFill>
                <a:srgbClr val="000000"/>
              </a:solidFill>
              <a:latin typeface="Arial"/>
            </a:endParaRPr>
          </a:p>
          <a:p>
            <a:pPr marL="457200" indent="-457200" algn="just">
              <a:spcBef>
                <a:spcPts val="499"/>
              </a:spcBef>
              <a:spcAft>
                <a:spcPts val="499"/>
              </a:spcAft>
              <a:buClr>
                <a:srgbClr val="00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No acredite la condición de responsable inscripto en el impuesto al valor agregado</a:t>
            </a:r>
            <a:endParaRPr b="0" lang="en-US" sz="2000" spc="-1" strike="noStrike">
              <a:solidFill>
                <a:srgbClr val="000000"/>
              </a:solidFill>
              <a:latin typeface="Arial"/>
            </a:endParaRPr>
          </a:p>
          <a:p>
            <a:pPr marL="457200" indent="-457200" algn="just">
              <a:spcBef>
                <a:spcPts val="499"/>
              </a:spcBef>
              <a:spcAft>
                <a:spcPts val="499"/>
              </a:spcAft>
              <a:buClr>
                <a:srgbClr val="00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uando el contribuyente lo solicite</a:t>
            </a:r>
            <a:endParaRPr b="0" lang="en-US" sz="2000" spc="-1" strike="noStrike">
              <a:solidFill>
                <a:srgbClr val="000000"/>
              </a:solidFill>
              <a:latin typeface="Arial"/>
            </a:endParaRPr>
          </a:p>
          <a:p>
            <a:pPr marL="457200" indent="-457200" algn="just">
              <a:spcBef>
                <a:spcPts val="499"/>
              </a:spcBef>
              <a:spcAft>
                <a:spcPts val="499"/>
              </a:spcAft>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No acredite su condición de inscripto como operador del comercio de granos ante la Oficina Nacional de Control Comercial Agropecuario, </a:t>
            </a:r>
            <a:endParaRPr b="0" lang="en-US" sz="2000" spc="-1" strike="noStrike">
              <a:solidFill>
                <a:srgbClr val="000000"/>
              </a:solidFill>
              <a:latin typeface="Arial"/>
            </a:endParaRPr>
          </a:p>
          <a:p>
            <a:pPr marL="457200" indent="-45720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Arial"/>
                <a:ea typeface="Arial"/>
              </a:rPr>
              <a:t>Las exclusiones previstas en los incisos a), c), d) y f) operarán de pleno derecho en decir SIN AVISO PREV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Recursos a considerar </a:t>
            </a:r>
            <a:endParaRPr b="0" lang="en-US" sz="2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xcluidos </a:t>
            </a:r>
            <a:endParaRPr b="0" lang="en-US" sz="2400" spc="-1" strike="noStrike">
              <a:solidFill>
                <a:srgbClr val="000000"/>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egatoria inclusión</a:t>
            </a:r>
            <a:endParaRPr b="0" lang="en-US" sz="2400" spc="-1" strike="noStrike">
              <a:solidFill>
                <a:srgbClr val="000000"/>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egatoria actualización de da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6600"/>
                </a:solidFill>
                <a:latin typeface="Arial"/>
              </a:rPr>
              <a:t>	</a:t>
            </a:r>
            <a:r>
              <a:rPr b="0" i="1" lang="es-ES" sz="2400" spc="-1" strike="noStrike">
                <a:solidFill>
                  <a:srgbClr val="ff33cc"/>
                </a:solidFill>
                <a:latin typeface="Arial"/>
              </a:rPr>
              <a:t>Podrán interponer el recurso previsto en el Artículo 74 del Decreto Nº 1397/79.</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dida Cautelar  - Amparo (tema a consider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Arial"/>
              </a:rPr>
              <a:t>Sanciones  Impropias  Registro Fiscal de Operadores de Granos RG 2300</a:t>
            </a:r>
            <a:endParaRPr b="0" lang="en-US" sz="20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suspensiones  por problemas formales y algunas  exclusiones en el RFOG no deberían ser  sistémicas, sino que deben ser notificadas en todos los casos por algún medio fehacient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sugiere abrir la competencia del  Tribunal Fiscal  porque se trata de un ente independiente  mientras que  la apelación prevista por el artículo 74 reglamentario de la ley 11.683 se otorga con efecto devolutivo, a diferencia del caso de la intervención del organismo jurisdiccional que suspende los efectos del acto y su ejecució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Arial"/>
              </a:rPr>
              <a:t>Presunción de diferencias de producción</a:t>
            </a:r>
            <a:br>
              <a:rPr sz="2000"/>
            </a:br>
            <a:r>
              <a:rPr b="1" i="1" lang="es-ES_tradnl" sz="2000" spc="-1" strike="noStrike" u="sng">
                <a:solidFill>
                  <a:srgbClr val="000000"/>
                </a:solidFill>
                <a:uFillTx/>
                <a:latin typeface="Arial"/>
              </a:rPr>
              <a:t>Imágenes Satelitales</a:t>
            </a:r>
            <a:endParaRPr b="0" lang="en-US" sz="2000" spc="-1" strike="noStrike">
              <a:solidFill>
                <a:srgbClr val="000000"/>
              </a:solidFill>
              <a:latin typeface="Arial"/>
            </a:endParaRPr>
          </a:p>
        </p:txBody>
      </p:sp>
      <p:sp>
        <p:nvSpPr>
          <p:cNvPr id="86" name=""/>
          <p:cNvSpPr txBox="1"/>
          <p:nvPr/>
        </p:nvSpPr>
        <p:spPr>
          <a:xfrm>
            <a:off x="53964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emos necesaria la eliminación de la presunción legal dispuesta por el inciso c´) del artículo 18 de la Ley de procedimientos fiscales, sin prescindir del relevamiento satelital como un indicio que puede utilizarse como una presunción simp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s-ES" sz="2000" spc="-1" strike="noStrike" u="sng">
                <a:solidFill>
                  <a:srgbClr val="000000"/>
                </a:solidFill>
                <a:uFillTx/>
                <a:latin typeface="Arial"/>
              </a:rPr>
              <a:t>Emergencia Agropecuaria y zona de Desastre</a:t>
            </a:r>
            <a:br>
              <a:rPr sz="3200"/>
            </a:br>
            <a:endParaRPr b="0" lang="en-US" sz="2000" spc="-1" strike="noStrike">
              <a:solidFill>
                <a:srgbClr val="000000"/>
              </a:solidFill>
              <a:latin typeface="Arial"/>
            </a:endParaRPr>
          </a:p>
        </p:txBody>
      </p:sp>
      <p:sp>
        <p:nvSpPr>
          <p:cNvPr id="88" name=""/>
          <p:cNvSpPr txBox="1"/>
          <p:nvPr/>
        </p:nvSpPr>
        <p:spPr>
          <a:xfrm>
            <a:off x="468000" y="2292480"/>
            <a:ext cx="8218440" cy="4565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ey 26.509 (28/ 08/ 200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ecreto 1114 / 200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ey 22.91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fectación disminuida en mas de un 50 % = Emergenci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fectación disminuida en mas de  un 80 % = Desastre Agropecuar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Arial"/>
              </a:rPr>
              <a:t>Emergencia Agropecuaria y zona de Desastre</a:t>
            </a:r>
            <a:endParaRPr b="0" lang="en-US" sz="20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os  regímenes vigentes de emergencia y zona de desastre agropecuario,  son de implementación compleja y los tiempos administrativos que requiere la Declaración de Emergencia o Desastre  producen consecuencia no deseada por lo que se propone que por ejemplo por  el solo hecho de estar en zona de desastre sin más trámites se le otorgue los beneficios establecidos en las norma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fin de  evitar controversias, es necesario que surja de la ley una definición inequívoca de  conceptos tales como venta forzosa  y   capacidad de producción, ambos son aspectos que   de ser correctamente formulados  permitirán el uso adecuado y oportuno  de esta herramienta y al mismo tiempo otorgarles verdadera utilidad a la hora de asistir a productores en situaciones de crisis.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Arial"/>
              </a:rPr>
              <a:t>El Instituto de la Mera Compra </a:t>
            </a:r>
            <a:br>
              <a:rPr sz="2400"/>
            </a:br>
            <a:endParaRPr b="0" lang="en-US" sz="2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bre la inclusión de la mera compra como un hecho imponible especial  a los efectos de evitar inconsistencias en su sistema tributario, las Provincias y la CABA deberían evitar incluir este instituto en sus códigos fiscales como una actividad alcanzada por el impuesto sobre los ingresos brutos o como un impuesto especial.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alamos  las dificultades interpretativas que genera el concepto de mera compra al estar incluido en el Convenio Multilateral y el sustento que consideran las jurisdicciones provinciales que les da para incorporarlas en sus normas locales, lo que hace necesario proponer su eliminación en una reforma del mismo.</a:t>
            </a:r>
            <a:r>
              <a:rPr b="0" lang="es-ES" sz="2000" spc="-1" strike="noStrike">
                <a:solidFill>
                  <a:srgbClr val="000000"/>
                </a:solidFill>
                <a:latin typeface="Arial"/>
              </a:rPr>
              <a:t>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ante el supuesto de su permanencia en el Convenio, resulta necesario que los organismos de control del mismo definan con claridad conceptos tales como producto primario, si  el comprador debe desarrollar actividades en la jurisdicción de producción y cuáles son las pautas para determinar tal situación, entre otros temas</a:t>
            </a:r>
            <a:br>
              <a:rPr sz="2000"/>
            </a:br>
            <a:r>
              <a:rPr b="0" lang="es-ES" sz="2000" spc="-1" strike="noStrike">
                <a:solidFill>
                  <a:srgbClr val="000000"/>
                </a:solidFill>
                <a:latin typeface="Arial"/>
              </a:rPr>
              <a:t>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Arial"/>
              </a:rPr>
              <a:t>Derechos de Exportación </a:t>
            </a:r>
            <a:endParaRPr b="0" lang="en-US" sz="2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ulta indispensable que los derechos de exportación sean  fijados por Ley del Congreso de la Nación, sancionada a partir de la discusión del proyecto que eleve </a:t>
            </a:r>
            <a:r>
              <a:rPr b="0" lang="es-AR" sz="2000" spc="-1" strike="noStrike">
                <a:solidFill>
                  <a:srgbClr val="000000"/>
                </a:solidFill>
                <a:latin typeface="Arial"/>
              </a:rPr>
              <a:t>el Poder Ejecutivo (el que podría incluirse en la ley de Presupuesto), autorizando a éste último a introducir modificaciones en las alícuotas, precisando los límites de esta atribución excepcional, fundada y temporaria.</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emplando las situaciones circunstanciales de los mercados, solamente deben ser impuestos transitoriamente, por lo que se plantea una reducción paulatina de los derechos en vigo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reducción impactaría como una reducción parcial de la recaudación del Estado Nacional, conformada por la pérdida de los derechos de exportación y por el incremento en el  impuesto a las ganancias, lo que significaría una mejora sustancial de la equidad en el sistema tributario.</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mpuesto al Valor Agregado</a:t>
            </a:r>
            <a:br>
              <a:rPr sz="2400"/>
            </a:br>
            <a:endParaRPr b="0" lang="en-US" sz="2400" spc="-1" strike="noStrike">
              <a:solidFill>
                <a:srgbClr val="000000"/>
              </a:solidFill>
              <a:latin typeface="Arial"/>
            </a:endParaRPr>
          </a:p>
        </p:txBody>
      </p:sp>
      <p:sp>
        <p:nvSpPr>
          <p:cNvPr id="44" name="PlaceHolder 2"/>
          <p:cNvSpPr>
            <a:spLocks noGrp="1"/>
          </p:cNvSpPr>
          <p:nvPr>
            <p:ph type="subTitle"/>
          </p:nvPr>
        </p:nvSpPr>
        <p:spPr>
          <a:xfrm>
            <a:off x="1042920" y="1988640"/>
            <a:ext cx="6400800" cy="17528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El IVA agropecuario</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Regímenes de retención y de percepció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Periodo de Liquidación mensual con pago anual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Contratos Agropecuarios</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Entre otro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u="sng">
                <a:solidFill>
                  <a:srgbClr val="000000"/>
                </a:solidFill>
                <a:uFillTx/>
                <a:latin typeface="Arial"/>
              </a:rPr>
              <a:t>Derechos de Exportación </a:t>
            </a:r>
            <a:endParaRPr b="0" lang="en-US" sz="20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ado que la propuesta en cuestión, se basa en la instrumentación de un sistema tributario racional, que responda a los principios reglados por nuestra Constitución Nacional, se sugiere que el mismo no puede depender de recursos que se le exija aportar a un sector productivo gravando la totalidad de su producción, sin tener en cuenta su capacidad contributiva, por lo que la misma sugiere la sustitución paulatina de los derechos de exportación por el aumento de la recaudación en el  impuesto a la rent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brecha temporal de recaudación, en parte quedaría compensada por el régimen de anticipos del impuesto a las ganancias y además podría implementarse un régimen de retención en la fuente sobre la venta de los productos primarios que luego serán exportados en el mismo estado o como insumo de otros bie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u="sng">
                <a:solidFill>
                  <a:srgbClr val="000000"/>
                </a:solidFill>
                <a:uFillTx/>
                <a:latin typeface="Arial"/>
              </a:rPr>
              <a:t>Derechos de Exportación </a:t>
            </a:r>
            <a:endParaRPr b="0" lang="en-US" sz="20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entras se mantengan los derechos de exportación y durante el proceso de reducción de las alícuotas, se recomienda: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Que el Congreso Nacional contemple cambios en el elenco de bienes gravados y sus alícuotas,  de tal forma de orientar el uso racional de la tierra.</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tinar parte de la recaudación de tributos aduaneros para constituir un fondo anticíclico que permita un blindaje ante variaciones significativas de los precios internacionales a la baja.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mismo resultaría positivo que durante el mismo período se destine un porcentaje de esa recaudación para la realización de obras de infraestructura que faciliten en crecimiento económico en las Provincias, favoreciendo una descentralización territorial con equidad y mejora de las oportunidades.  </a:t>
            </a:r>
            <a:endParaRPr b="0" lang="en-US" sz="2000" spc="-1" strike="noStrike">
              <a:solidFill>
                <a:srgbClr val="000000"/>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IVA agropecuario</a:t>
            </a:r>
            <a:br>
              <a:rPr sz="2400"/>
            </a:br>
            <a:endParaRPr b="0"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Algunas posibilidad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vada a tasa cero manteniendo las formalidades necesarias y con  recupero de los créditos fiscales incurridos, a los fines de mantener la neutralidad del gravam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avada en  </a:t>
            </a:r>
            <a:r>
              <a:rPr b="0" lang="es-ES_tradnl" sz="2000" spc="-1" strike="noStrike">
                <a:solidFill>
                  <a:srgbClr val="000000"/>
                </a:solidFill>
                <a:latin typeface="Arial"/>
              </a:rPr>
              <a:t>la totalidad de la  cadena de valor, desde la  producción primaria y continuando su gravabilidad en los eslabones siguien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468360" y="2091600"/>
            <a:ext cx="8136000" cy="3143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blemas de interpretación entre </a:t>
            </a:r>
            <a:r>
              <a:rPr b="0" lang="es-AR" sz="2000" spc="-1" strike="noStrike">
                <a:solidFill>
                  <a:srgbClr val="000000"/>
                </a:solidFill>
                <a:latin typeface="Arial"/>
              </a:rPr>
              <a:t>el F</a:t>
            </a:r>
            <a:r>
              <a:rPr b="0" lang="es-ES" sz="2000" spc="-1" strike="noStrike">
                <a:solidFill>
                  <a:srgbClr val="000000"/>
                </a:solidFill>
                <a:latin typeface="Arial"/>
              </a:rPr>
              <a:t>isco y </a:t>
            </a:r>
            <a:r>
              <a:rPr b="0" lang="es-AR" sz="2000" spc="-1" strike="noStrike">
                <a:solidFill>
                  <a:srgbClr val="000000"/>
                </a:solidFill>
                <a:latin typeface="Arial"/>
              </a:rPr>
              <a:t>los </a:t>
            </a:r>
            <a:r>
              <a:rPr b="0" lang="es-ES" sz="2000" spc="-1" strike="noStrike">
                <a:solidFill>
                  <a:srgbClr val="000000"/>
                </a:solidFill>
                <a:latin typeface="Arial"/>
              </a:rPr>
              <a:t>contribuyentes</a:t>
            </a:r>
            <a:r>
              <a:rPr b="0" lang="es-AR"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enta contra la neutralidad del tributo</a:t>
            </a:r>
            <a:r>
              <a:rPr b="0" lang="es-AR"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Evidentemente siempre que se aplica una alícuota reducida a un sector en convivencia con la alícuota general se lo perjudica, por lo que se hace necesario implementar mecanismos adecuados para atenuar los efectos no deseado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enta contra el principio de la uniformidad </a:t>
            </a:r>
            <a:endParaRPr b="0" lang="en-US" sz="2000" spc="-1" strike="noStrike">
              <a:solidFill>
                <a:srgbClr val="000000"/>
              </a:solidFill>
              <a:latin typeface="Arial"/>
            </a:endParaRPr>
          </a:p>
          <a:p>
            <a:pPr marL="343080" indent="-343080" algn="just">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ción de saldos técnicos</a:t>
            </a:r>
            <a:r>
              <a:rPr b="0" lang="es-AR"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Text Box 3"/>
          <p:cNvSpPr/>
          <p:nvPr/>
        </p:nvSpPr>
        <p:spPr>
          <a:xfrm>
            <a:off x="250920" y="692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Tasa reduci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71640" y="549360"/>
            <a:ext cx="74865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Arial"/>
              </a:rPr>
              <a:t>IVA Agropecuario</a:t>
            </a:r>
            <a:endParaRPr b="0" lang="en-US" sz="2400" spc="-1" strike="noStrike">
              <a:solidFill>
                <a:srgbClr val="000000"/>
              </a:solidFill>
              <a:latin typeface="Arial"/>
            </a:endParaRPr>
          </a:p>
        </p:txBody>
      </p:sp>
      <p:sp>
        <p:nvSpPr>
          <p:cNvPr id="50" name="PlaceHolder 2"/>
          <p:cNvSpPr>
            <a:spLocks noGrp="1"/>
          </p:cNvSpPr>
          <p:nvPr>
            <p:ph type="subTitle"/>
          </p:nvPr>
        </p:nvSpPr>
        <p:spPr>
          <a:xfrm>
            <a:off x="539640" y="1052280"/>
            <a:ext cx="7920000" cy="45147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uestas a largo plazo </a:t>
            </a:r>
            <a:endParaRPr b="0" lang="en-US" sz="2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 conveniente mantener el sector primario dentro del impuesto al valor agregado, facilitando el cumplimiento fiscal de los partícipes del proceso de producción y comercialización de productos agropecuarios.</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sta situación la actividad agropecuaria,  de la misma forma que la totalidad de las operaciones gravadas,  debería estar alcanzada a una alícuota uniforme pero muy inferior a la actual.</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puesta a  corto plazo</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Hasta tanto no se logre la unificación y la baja de las alícuotas, se propone aplicar  la alícuota reducida a los  siguientes bienes y servicios gravados actualmente al 21%, tales como  semillas y productos veterinarios y  servicios relacionados con la actividad tales como: seguros, intereses de financiación, fletes, comisiones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Retenciones  IVA en Granos</a:t>
            </a:r>
            <a:br>
              <a:rPr sz="2400"/>
            </a:br>
            <a:r>
              <a:rPr b="1" lang="es-AR" sz="2400" spc="-1" strike="noStrike" u="sng">
                <a:solidFill>
                  <a:srgbClr val="000000"/>
                </a:solidFill>
                <a:uFillTx/>
                <a:latin typeface="Arial"/>
              </a:rPr>
              <a:t>Propuestas  </a:t>
            </a:r>
            <a:endParaRPr b="0" lang="en-US" sz="2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régimen de retención en la comercialización de granos la RG 2300 instituye una retención en el IVA  del orden del 76% de la alícuota aplicable  en  la comercialización  de granos no destinados a la siembra- cereales y oleaginosas  y legumbres secas – porotos, arvejas y lentejas, con una devolución sistémica que representa el 86% de dicha retenció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mos que las alícuotas de retención de este régimen  deberían reducirse a niveles compatibles con la razonabilidad, sin perder de vista el control, lo que permitiría atenuar el retraso actual en la devolución sistém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Otros temas IVA</a:t>
            </a:r>
            <a:br>
              <a:rPr sz="2400"/>
            </a:br>
            <a:r>
              <a:rPr b="1" lang="es-AR" sz="2400" spc="-1" strike="noStrike" u="sng">
                <a:solidFill>
                  <a:srgbClr val="000000"/>
                </a:solidFill>
                <a:uFillTx/>
                <a:latin typeface="Arial"/>
              </a:rPr>
              <a:t>Propuestas  </a:t>
            </a:r>
            <a:endParaRPr b="0" lang="en-US" sz="2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1000"/>
          </a:bodyPr>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Arial"/>
              </a:rPr>
              <a:t>Periodo de Liquidación  IVA mensual con pago  anual </a:t>
            </a:r>
            <a:endParaRPr b="0" lang="en-US" sz="20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menester precisar en forma inequívoca el término actividad agropecuaria, para no generar incertidumbre a la hora de definir si un productor agropecuario realiza la actividad en forma exclusiva.</a:t>
            </a:r>
            <a:endParaRPr b="0" lang="en-US" sz="1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u="sng">
                <a:solidFill>
                  <a:srgbClr val="000000"/>
                </a:solidFill>
                <a:uFillTx/>
                <a:latin typeface="Arial"/>
              </a:rPr>
              <a:t>Contratos Agropecuarios</a:t>
            </a:r>
            <a:r>
              <a:rPr b="0" lang="es-ES" sz="2000" spc="-1" strike="noStrike">
                <a:solidFill>
                  <a:srgbClr val="000000"/>
                </a:solidFill>
                <a:latin typeface="Arial"/>
              </a:rPr>
              <a:t> </a:t>
            </a:r>
            <a:endParaRPr b="0" lang="en-US" sz="20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necesario   otorgarle un marco jurídico adecuado a las nuevas formas de negocios en el agro, bajo el convencimiento de que,  además de fijarse reglas claras entre las partes a través de un adecuado marco  jurídico,  se facilitaría consecuentemente  el   encuadre tributario  en cada uno de los  impuestos.</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hasta que esto  no suceda,  se considera  que  en el caso del IVA debieran  incorporarse las opiniones del Fisco vertidas, en sendos dictamenes lo que produce inseguridad jurídica e incertidumbre a la hora de desarrollar negocios agropecuarios.</a:t>
            </a:r>
            <a:endParaRPr b="0" lang="en-US" sz="18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mpuesto a las Ganancias </a:t>
            </a:r>
            <a:br>
              <a:rPr sz="2400"/>
            </a:br>
            <a:endParaRPr b="0" lang="en-US" sz="2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uación de existenci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Hacienda de Inverna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ereales, oleaginosas, frutos y demás productos de la tier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mentera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tamiento Fiscal de los deriva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Concepto de mejoras</a:t>
            </a:r>
            <a:endParaRPr b="0" lang="en-US" sz="20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7T22:00:10Z</dcterms:created>
  <dc:creator>Claudia Chiaradia</dc:creator>
  <dc:description/>
  <dc:language>en-US</dc:language>
  <cp:lastModifiedBy>Emmanuel</cp:lastModifiedBy>
  <dcterms:modified xsi:type="dcterms:W3CDTF">2011-11-24T16:53:17Z</dcterms:modified>
  <cp:revision>140</cp:revision>
  <dc:subject/>
  <dc:title>Diapositiva 1</dc:title>
</cp:coreProperties>
</file>